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EELVC MATUTINO </a:t>
            </a:r>
          </a:p>
        </c:rich>
      </c:tx>
      <c:layout>
        <c:manualLayout>
          <c:xMode val="edge"/>
          <c:yMode val="edge"/>
          <c:x val="0.426203279854229"/>
          <c:y val="0.020247469066366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355455568054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1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63917061"/>
        <c:axId val="42807423"/>
      </c:barChart>
      <c:catAx>
        <c:axId val="6391706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7423"/>
        <c:crossesAt val="0"/>
        <c:auto val="1"/>
        <c:lblAlgn val="ctr"/>
        <c:lblOffset val="100"/>
        <c:noMultiLvlLbl val="0"/>
      </c:catAx>
      <c:valAx>
        <c:axId val="428074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1706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774" spc="-1" strike="noStrike">
                <a:solidFill>
                  <a:srgbClr val="000000"/>
                </a:solidFill>
                <a:latin typeface="Arial"/>
              </a:defRPr>
            </a:pPr>
            <a:r>
              <a:rPr b="0" sz="77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70156881916359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451673110252"/>
          <c:w val="0.959957335229545"/>
          <c:h val="0.8548193574190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6</c:v>
                </c:pt>
                <c:pt idx="3">
                  <c:v>0</c:v>
                </c:pt>
                <c:pt idx="4">
                  <c:v>1</c:v>
                </c:pt>
                <c:pt idx="5">
                  <c:v>5</c:v>
                </c:pt>
                <c:pt idx="6">
                  <c:v>2</c:v>
                </c:pt>
                <c:pt idx="7">
                  <c:v>1</c:v>
                </c:pt>
                <c:pt idx="8">
                  <c:v>2</c:v>
                </c:pt>
                <c:pt idx="9">
                  <c:v>6</c:v>
                </c:pt>
                <c:pt idx="10">
                  <c:v>3</c:v>
                </c:pt>
                <c:pt idx="11">
                  <c:v>6</c:v>
                </c:pt>
                <c:pt idx="12">
                  <c:v>2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5988023952096</c:v>
                </c:pt>
                <c:pt idx="1">
                  <c:v>3.05988023952096</c:v>
                </c:pt>
                <c:pt idx="2">
                  <c:v>12.6766467065868</c:v>
                </c:pt>
                <c:pt idx="3">
                  <c:v>10.9281437125749</c:v>
                </c:pt>
                <c:pt idx="4">
                  <c:v>7.86826347305389</c:v>
                </c:pt>
                <c:pt idx="5">
                  <c:v>7.86826347305389</c:v>
                </c:pt>
                <c:pt idx="6">
                  <c:v>7.86826347305389</c:v>
                </c:pt>
                <c:pt idx="7">
                  <c:v>5.24550898203593</c:v>
                </c:pt>
                <c:pt idx="8">
                  <c:v>2.62275449101796</c:v>
                </c:pt>
                <c:pt idx="9">
                  <c:v>3.49700598802395</c:v>
                </c:pt>
                <c:pt idx="10">
                  <c:v>3.05988023952096</c:v>
                </c:pt>
                <c:pt idx="11">
                  <c:v>2.62275449101796</c:v>
                </c:pt>
                <c:pt idx="12">
                  <c:v>1.31137724550898</c:v>
                </c:pt>
                <c:pt idx="13">
                  <c:v>1.31137724550898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9580812"/>
        <c:axId val="93013091"/>
      </c:barChart>
      <c:catAx>
        <c:axId val="495808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13091"/>
        <c:crossesAt val="0"/>
        <c:auto val="1"/>
        <c:lblAlgn val="ctr"/>
        <c:lblOffset val="100"/>
        <c:noMultiLvlLbl val="0"/>
      </c:catAx>
      <c:valAx>
        <c:axId val="93013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808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EELVC MATUTINO</a:t>
            </a:r>
          </a:p>
        </c:rich>
      </c:tx>
      <c:layout>
        <c:manualLayout>
          <c:xMode val="edge"/>
          <c:yMode val="edge"/>
          <c:x val="0.428558730723079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245833888815"/>
          <c:w val="0.959957335229545"/>
          <c:h val="0.8229569390747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1</c:v>
                </c:pt>
                <c:pt idx="3">
                  <c:v>2</c:v>
                </c:pt>
                <c:pt idx="4">
                  <c:v>4</c:v>
                </c:pt>
                <c:pt idx="5">
                  <c:v>4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88728961"/>
        <c:axId val="91880856"/>
      </c:barChart>
      <c:catAx>
        <c:axId val="8872896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80856"/>
        <c:crossesAt val="0"/>
        <c:auto val="1"/>
        <c:lblAlgn val="ctr"/>
        <c:lblOffset val="100"/>
        <c:noMultiLvlLbl val="0"/>
      </c:catAx>
      <c:valAx>
        <c:axId val="91880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896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47535665081552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857892763405"/>
          <c:w val="0.959912892760322"/>
          <c:h val="0.842644669416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6</c:v>
                </c:pt>
                <c:pt idx="3">
                  <c:v>2</c:v>
                </c:pt>
                <c:pt idx="4">
                  <c:v>12</c:v>
                </c:pt>
                <c:pt idx="5">
                  <c:v>2</c:v>
                </c:pt>
                <c:pt idx="6">
                  <c:v>1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1818181818182</c:v>
                </c:pt>
                <c:pt idx="1">
                  <c:v>5.72727272727273</c:v>
                </c:pt>
                <c:pt idx="2">
                  <c:v>15.9090909090909</c:v>
                </c:pt>
                <c:pt idx="3">
                  <c:v>14.6363636363636</c:v>
                </c:pt>
                <c:pt idx="4">
                  <c:v>7</c:v>
                </c:pt>
                <c:pt idx="5">
                  <c:v>7</c:v>
                </c:pt>
                <c:pt idx="6">
                  <c:v>2.54545454545455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7272727272727</c:v>
                </c:pt>
                <c:pt idx="15">
                  <c:v>1.59090909090909</c:v>
                </c:pt>
              </c:numCache>
            </c:numRef>
          </c:val>
        </c:ser>
        <c:gapWidth val="100"/>
        <c:overlap val="0"/>
        <c:axId val="46828736"/>
        <c:axId val="35068478"/>
      </c:barChart>
      <c:catAx>
        <c:axId val="4682873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68478"/>
        <c:crossesAt val="0"/>
        <c:auto val="1"/>
        <c:lblAlgn val="ctr"/>
        <c:lblOffset val="100"/>
        <c:noMultiLvlLbl val="0"/>
      </c:catAx>
      <c:valAx>
        <c:axId val="35068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873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889" spc="-1" strike="noStrike">
                <a:solidFill>
                  <a:srgbClr val="000000"/>
                </a:solidFill>
                <a:latin typeface="Arial"/>
              </a:defRPr>
            </a:pPr>
            <a:r>
              <a:rPr b="0" sz="889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55888368710513"/>
          <c:y val="0.019752469058632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81859915458"/>
          <c:y val="0.123015376922115"/>
          <c:w val="0.959956365619745"/>
          <c:h val="0.85673209151143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</c:v>
                </c:pt>
                <c:pt idx="3">
                  <c:v>6</c:v>
                </c:pt>
                <c:pt idx="4">
                  <c:v>10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63181818181818</c:v>
                </c:pt>
                <c:pt idx="1">
                  <c:v>5.97272727272727</c:v>
                </c:pt>
                <c:pt idx="2">
                  <c:v>16.5909090909091</c:v>
                </c:pt>
                <c:pt idx="3">
                  <c:v>15.2636363636364</c:v>
                </c:pt>
                <c:pt idx="4">
                  <c:v>7.3</c:v>
                </c:pt>
                <c:pt idx="5">
                  <c:v>7.3</c:v>
                </c:pt>
                <c:pt idx="6">
                  <c:v>2.65454545454545</c:v>
                </c:pt>
                <c:pt idx="7">
                  <c:v>7.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727272727273</c:v>
                </c:pt>
                <c:pt idx="15">
                  <c:v>1.65909090909091</c:v>
                </c:pt>
              </c:numCache>
            </c:numRef>
          </c:val>
        </c:ser>
        <c:gapWidth val="100"/>
        <c:overlap val="0"/>
        <c:axId val="90313559"/>
        <c:axId val="49891983"/>
      </c:barChart>
      <c:catAx>
        <c:axId val="903135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91983"/>
        <c:crossesAt val="0"/>
        <c:auto val="1"/>
        <c:lblAlgn val="ctr"/>
        <c:lblOffset val="100"/>
        <c:noMultiLvlLbl val="0"/>
      </c:catAx>
      <c:valAx>
        <c:axId val="49891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1355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47624550019999"/>
          <c:y val="0.020247469066366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480439945007"/>
          <c:w val="0.959912892760322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7</c:v>
                </c:pt>
                <c:pt idx="2">
                  <c:v>0</c:v>
                </c:pt>
                <c:pt idx="3">
                  <c:v>2</c:v>
                </c:pt>
                <c:pt idx="4">
                  <c:v>12</c:v>
                </c:pt>
                <c:pt idx="5">
                  <c:v>7</c:v>
                </c:pt>
                <c:pt idx="6">
                  <c:v>3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1818181818182</c:v>
                </c:pt>
                <c:pt idx="1">
                  <c:v>5.72727272727273</c:v>
                </c:pt>
                <c:pt idx="2">
                  <c:v>15.9090909090909</c:v>
                </c:pt>
                <c:pt idx="3">
                  <c:v>14.6363636363636</c:v>
                </c:pt>
                <c:pt idx="4">
                  <c:v>7</c:v>
                </c:pt>
                <c:pt idx="5">
                  <c:v>7</c:v>
                </c:pt>
                <c:pt idx="6">
                  <c:v>2.54545454545455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7272727272727</c:v>
                </c:pt>
                <c:pt idx="15">
                  <c:v>1.59090909090909</c:v>
                </c:pt>
              </c:numCache>
            </c:numRef>
          </c:val>
        </c:ser>
        <c:gapWidth val="100"/>
        <c:overlap val="0"/>
        <c:axId val="80885779"/>
        <c:axId val="58636621"/>
      </c:barChart>
      <c:catAx>
        <c:axId val="808857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36621"/>
        <c:crossesAt val="0"/>
        <c:auto val="1"/>
        <c:lblAlgn val="ctr"/>
        <c:lblOffset val="100"/>
        <c:noMultiLvlLbl val="0"/>
      </c:catAx>
      <c:valAx>
        <c:axId val="58636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857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774" spc="-1" strike="noStrike">
                <a:solidFill>
                  <a:srgbClr val="000000"/>
                </a:solidFill>
                <a:latin typeface="Arial"/>
              </a:defRPr>
            </a:pPr>
            <a:r>
              <a:rPr b="0" sz="77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62379449802231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4783362218371"/>
          <c:w val="0.959912892760322"/>
          <c:h val="0.8548193574190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16</c:v>
                </c:pt>
                <c:pt idx="2">
                  <c:v>4</c:v>
                </c:pt>
                <c:pt idx="3">
                  <c:v>4</c:v>
                </c:pt>
                <c:pt idx="4">
                  <c:v>9</c:v>
                </c:pt>
                <c:pt idx="5">
                  <c:v>2</c:v>
                </c:pt>
                <c:pt idx="6">
                  <c:v>8</c:v>
                </c:pt>
                <c:pt idx="7">
                  <c:v>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63181818181818</c:v>
                </c:pt>
                <c:pt idx="1">
                  <c:v>5.97272727272727</c:v>
                </c:pt>
                <c:pt idx="2">
                  <c:v>16.5909090909091</c:v>
                </c:pt>
                <c:pt idx="3">
                  <c:v>15.2636363636364</c:v>
                </c:pt>
                <c:pt idx="4">
                  <c:v>7.3</c:v>
                </c:pt>
                <c:pt idx="5">
                  <c:v>7.3</c:v>
                </c:pt>
                <c:pt idx="6">
                  <c:v>2.65454545454545</c:v>
                </c:pt>
                <c:pt idx="7">
                  <c:v>7.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727272727273</c:v>
                </c:pt>
                <c:pt idx="15">
                  <c:v>1.65909090909091</c:v>
                </c:pt>
              </c:numCache>
            </c:numRef>
          </c:val>
        </c:ser>
        <c:gapWidth val="100"/>
        <c:overlap val="0"/>
        <c:axId val="24628783"/>
        <c:axId val="57688676"/>
      </c:barChart>
      <c:catAx>
        <c:axId val="2462878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88676"/>
        <c:crossesAt val="0"/>
        <c:auto val="1"/>
        <c:lblAlgn val="ctr"/>
        <c:lblOffset val="100"/>
        <c:noMultiLvlLbl val="0"/>
      </c:catAx>
      <c:valAx>
        <c:axId val="5768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2878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982877140357"/>
          <c:w val="0.959912892760322"/>
          <c:h val="0.84251968503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7</c:v>
                </c:pt>
                <c:pt idx="3">
                  <c:v>0</c:v>
                </c:pt>
                <c:pt idx="4">
                  <c:v>9</c:v>
                </c:pt>
                <c:pt idx="5">
                  <c:v>4</c:v>
                </c:pt>
                <c:pt idx="6">
                  <c:v>0</c:v>
                </c:pt>
                <c:pt idx="7">
                  <c:v>2</c:v>
                </c:pt>
                <c:pt idx="8">
                  <c:v>4</c:v>
                </c:pt>
                <c:pt idx="9">
                  <c:v>5</c:v>
                </c:pt>
                <c:pt idx="10">
                  <c:v>4</c:v>
                </c:pt>
                <c:pt idx="11">
                  <c:v>1</c:v>
                </c:pt>
                <c:pt idx="12">
                  <c:v>4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80838323353293</c:v>
                </c:pt>
                <c:pt idx="1">
                  <c:v>2.80838323353293</c:v>
                </c:pt>
                <c:pt idx="2">
                  <c:v>11.6347305389222</c:v>
                </c:pt>
                <c:pt idx="3">
                  <c:v>10.0299401197605</c:v>
                </c:pt>
                <c:pt idx="4">
                  <c:v>7.22155688622755</c:v>
                </c:pt>
                <c:pt idx="5">
                  <c:v>7.22155688622755</c:v>
                </c:pt>
                <c:pt idx="6">
                  <c:v>7.22155688622755</c:v>
                </c:pt>
                <c:pt idx="7">
                  <c:v>4.81437125748503</c:v>
                </c:pt>
                <c:pt idx="8">
                  <c:v>2.40718562874252</c:v>
                </c:pt>
                <c:pt idx="9">
                  <c:v>3.20958083832335</c:v>
                </c:pt>
                <c:pt idx="10">
                  <c:v>2.80838323353293</c:v>
                </c:pt>
                <c:pt idx="11">
                  <c:v>2.40718562874252</c:v>
                </c:pt>
                <c:pt idx="12">
                  <c:v>1.20359281437126</c:v>
                </c:pt>
                <c:pt idx="13">
                  <c:v>1.2035928143712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6360635"/>
        <c:axId val="75880907"/>
      </c:barChart>
      <c:catAx>
        <c:axId val="663606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80907"/>
        <c:crossesAt val="0"/>
        <c:auto val="1"/>
        <c:lblAlgn val="ctr"/>
        <c:lblOffset val="100"/>
        <c:noMultiLvlLbl val="0"/>
      </c:catAx>
      <c:valAx>
        <c:axId val="75880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063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0" spc="-1" strike="noStrike">
                <a:solidFill>
                  <a:srgbClr val="000000"/>
                </a:solidFill>
                <a:latin typeface="Arial"/>
              </a:defRPr>
            </a:pPr>
            <a:r>
              <a:rPr b="0" sz="910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65445980178659"/>
          <c:y val="0.01974753155855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22984626921635"/>
          <c:w val="0.960001777698769"/>
          <c:h val="0.856892888388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4</c:v>
                </c:pt>
                <c:pt idx="2">
                  <c:v>3</c:v>
                </c:pt>
                <c:pt idx="3">
                  <c:v>0</c:v>
                </c:pt>
                <c:pt idx="4">
                  <c:v>1</c:v>
                </c:pt>
                <c:pt idx="5">
                  <c:v>7</c:v>
                </c:pt>
                <c:pt idx="6">
                  <c:v>0</c:v>
                </c:pt>
                <c:pt idx="7">
                  <c:v>0</c:v>
                </c:pt>
                <c:pt idx="8">
                  <c:v>3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3413173652695</c:v>
                </c:pt>
                <c:pt idx="1">
                  <c:v>2.93413173652695</c:v>
                </c:pt>
                <c:pt idx="2">
                  <c:v>12.1556886227545</c:v>
                </c:pt>
                <c:pt idx="3">
                  <c:v>10.4790419161677</c:v>
                </c:pt>
                <c:pt idx="4">
                  <c:v>7.54491017964072</c:v>
                </c:pt>
                <c:pt idx="5">
                  <c:v>7.54491017964072</c:v>
                </c:pt>
                <c:pt idx="6">
                  <c:v>7.54491017964072</c:v>
                </c:pt>
                <c:pt idx="7">
                  <c:v>5.02994011976048</c:v>
                </c:pt>
                <c:pt idx="8">
                  <c:v>2.51497005988024</c:v>
                </c:pt>
                <c:pt idx="9">
                  <c:v>3.35329341317365</c:v>
                </c:pt>
                <c:pt idx="10">
                  <c:v>2.93413173652695</c:v>
                </c:pt>
                <c:pt idx="11">
                  <c:v>2.51497005988024</c:v>
                </c:pt>
                <c:pt idx="12">
                  <c:v>1.25748502994012</c:v>
                </c:pt>
                <c:pt idx="13">
                  <c:v>1.2574850299401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0556395"/>
        <c:axId val="72721842"/>
      </c:barChart>
      <c:catAx>
        <c:axId val="4055639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21842"/>
        <c:crossesAt val="0"/>
        <c:auto val="1"/>
        <c:lblAlgn val="ctr"/>
        <c:lblOffset val="100"/>
        <c:noMultiLvlLbl val="0"/>
      </c:catAx>
      <c:valAx>
        <c:axId val="72721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5639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20247469066366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480439945007"/>
          <c:w val="0.959912892760322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7</c:v>
                </c:pt>
                <c:pt idx="5">
                  <c:v>4</c:v>
                </c:pt>
                <c:pt idx="6">
                  <c:v>2</c:v>
                </c:pt>
                <c:pt idx="7">
                  <c:v>3</c:v>
                </c:pt>
                <c:pt idx="8">
                  <c:v>1</c:v>
                </c:pt>
                <c:pt idx="9">
                  <c:v>1</c:v>
                </c:pt>
                <c:pt idx="10">
                  <c:v>3</c:v>
                </c:pt>
                <c:pt idx="11">
                  <c:v>2</c:v>
                </c:pt>
                <c:pt idx="12">
                  <c:v>5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89221556886228</c:v>
                </c:pt>
                <c:pt idx="1">
                  <c:v>2.89221556886228</c:v>
                </c:pt>
                <c:pt idx="2">
                  <c:v>11.9820359281437</c:v>
                </c:pt>
                <c:pt idx="3">
                  <c:v>10.3293413173653</c:v>
                </c:pt>
                <c:pt idx="4">
                  <c:v>7.43712574850299</c:v>
                </c:pt>
                <c:pt idx="5">
                  <c:v>7.43712574850299</c:v>
                </c:pt>
                <c:pt idx="6">
                  <c:v>7.43712574850299</c:v>
                </c:pt>
                <c:pt idx="7">
                  <c:v>4.95808383233533</c:v>
                </c:pt>
                <c:pt idx="8">
                  <c:v>2.47904191616766</c:v>
                </c:pt>
                <c:pt idx="9">
                  <c:v>3.30538922155689</c:v>
                </c:pt>
                <c:pt idx="10">
                  <c:v>2.89221556886228</c:v>
                </c:pt>
                <c:pt idx="11">
                  <c:v>2.47904191616766</c:v>
                </c:pt>
                <c:pt idx="12">
                  <c:v>1.23952095808383</c:v>
                </c:pt>
                <c:pt idx="13">
                  <c:v>1.2395209580838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2348420"/>
        <c:axId val="58395845"/>
      </c:barChart>
      <c:catAx>
        <c:axId val="423484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95845"/>
        <c:crossesAt val="0"/>
        <c:auto val="1"/>
        <c:lblAlgn val="ctr"/>
        <c:lblOffset val="100"/>
        <c:noMultiLvlLbl val="0"/>
      </c:catAx>
      <c:valAx>
        <c:axId val="58395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4842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2D04-419C-46D3-99EB-30AF5C9A86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145E-384E-4563-A26E-4E0E3B490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DB5-33F8-47C2-92EE-557537DE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C8A-902E-4981-9B61-20FD0E16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452-BE06-4C9A-BCEE-7D792571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E73-4F28-49EC-8145-8901AD16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26B-0565-4171-A25F-13C39C0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90D-7D25-44DB-B0E3-00CC482B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799-5C4F-4BEE-B0F0-F1DA1EBC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483-8508-44F7-8EDB-4E51BBC6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CE4-AD37-435B-8077-52379A29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F4E-C598-4BFF-A457-B7B79A2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4D3-ACF8-44B2-A431-0D998D5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F5E-F07C-4918-AD45-00E957F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5D2B-985E-40F3-B114-F378BD584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chart" Target="../charts/chart3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chart" Target="../charts/chart5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chart" Target="../charts/chart6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chart" Target="../charts/chart7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chart" Target="../charts/chart8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chart" Target="../charts/chart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chart" Target="../charts/chart10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cronograma%202&#186;%20semeste/Cronograma%20-%20PNTE.doc" TargetMode="External"/><Relationship Id="rId3" Type="http://schemas.openxmlformats.org/officeDocument/2006/relationships/hyperlink" Target="file:///Cronograma3-14-08.doc" TargetMode="External"/><Relationship Id="rId4" Type="http://schemas.openxmlformats.org/officeDocument/2006/relationships/hyperlink" Target="file:///Cronograma%20-%20completo.doc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RONOGRAMA%201&#186;%20SEMESTRE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chart" Target="../charts/chart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chart" Target="../charts/chart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E LUIZ VAZ DE CAMÕES (Ipezal) - ANGÉLICA 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720720" y="1620720"/>
          <a:ext cx="792000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2668680" y="450072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450072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A MARIA ELIANA FERREI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2195640" y="465300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465300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nca utilizaram: (Educação Fís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utilizaram: (Artes, Português, História,  Ciências, Produções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ociosas: 56,9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utilizadas: 43,0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nca utilizaram: ( Todas utiliza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utilizaram: (Matemática, História, Geograf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ociosas: 47,9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utilizadas: 52,0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nca utilizaram: ( Ed. Física, Matemát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s utilizaram: (História, Geografia, Química,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ociosas:  50,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édia de aulas utilizadas:  49,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 ou portfó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e não a seus medos,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1484280"/>
            <a:ext cx="84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Realidade de uso da STE nos meses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 – Abril – Maio -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4000" y="602136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A SUELI LUIZA DOS SANTOS MILHO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ARÇO, ABR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* Março e Abril não tinha professor lotado no matu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28760" y="2138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7572240" y="5857920"/>
            <a:ext cx="1266840" cy="590400"/>
          </a:xfrm>
          <a:prstGeom prst="rect">
            <a:avLst/>
          </a:prstGeom>
          <a:ln w="0">
            <a:noFill/>
          </a:ln>
        </p:spPr>
      </p:pic>
      <p:sp>
        <p:nvSpPr>
          <p:cNvPr id="107" name="Conector reto 20"/>
          <p:cNvSpPr/>
          <p:nvPr/>
        </p:nvSpPr>
        <p:spPr>
          <a:xfrm flipH="1">
            <a:off x="783720" y="3787920"/>
            <a:ext cx="180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4940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00360" y="45007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5007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SILVANA POLIZ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SEDMS</cp:lastModifiedBy>
  <dcterms:modified xsi:type="dcterms:W3CDTF">2009-08-17T23:22:35Z</dcterms:modified>
  <cp:revision>92</cp:revision>
  <dc:subject/>
  <dc:title>EE LUIZ SOARES ANDRADE  NOVA ANDRADINA - MS</dc:title>
</cp:coreProperties>
</file>